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DB9-AC2D-4EE2-9099-14865E6F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0E6-0027-435E-B1CF-AE1E01FF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5EC-E47F-4F41-A1AD-2CD40FBA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08C-7996-456F-863B-02249515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D16-4211-4E90-8750-F7ED882B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7B7-6BBF-464F-92D2-FD9752C5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0E2-FB56-4BD2-A5A9-B59C9015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C4E-4E15-4257-A56A-0FDDD6DE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E0F-AAB8-4F86-87DB-50DBE799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BAC-DE85-4460-A1D8-CA4671AA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9BF-8FDC-4450-A6A3-731BD3D6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B3A-4764-4EFF-AB97-CC9D6A37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F23D-8A51-4682-81D1-6FD1AA15BFC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8291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5:29:55Z</dcterms:created>
  <dc:creator>Laval Dubreuil</dc:creator>
  <dc:description/>
  <dc:language>en-US</dc:language>
  <cp:lastModifiedBy>Per Nordland</cp:lastModifiedBy>
  <dcterms:modified xsi:type="dcterms:W3CDTF">2002-07-14T21:50:26Z</dcterms:modified>
  <cp:revision>3</cp:revision>
  <dc:subject/>
  <dc:title>Présentation PowerPoint</dc:title>
</cp:coreProperties>
</file>