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84C-4E57-45B8-ACF7-29F1D600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5CA-A98B-4E65-BE9A-9E9691F6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A96-9A35-49BD-BDF6-853744C0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8CF-79FC-4AF6-A2AE-34B28720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BD0-892F-445B-9247-A8885FDE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7FA-1BAB-4AD1-9ABF-00F496E6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1E0-37F3-4FF8-B542-B0DE89E3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8D7-7935-46AE-B0E1-C2918CB4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55E-C2C4-4A60-8F5A-E0C06A3A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CD7-1AB0-4C93-9ACD-67DE237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839-1A41-452F-94AF-3837D92C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B0C-CB3D-4AE0-B258-6D56858F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B787-49AE-4D1D-9A7F-2495018D53C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8.html#law26" TargetMode="External"/><Relationship Id="rId2" Type="http://schemas.openxmlformats.org/officeDocument/2006/relationships/hyperlink" Target="http://www.acbl.org/info/laws97/node8.html#law25" TargetMode="External"/><Relationship Id="rId3" Type="http://schemas.openxmlformats.org/officeDocument/2006/relationships/hyperlink" Target="http://www.acbl.org/info/laws97/node8.html#law25" TargetMode="External"/><Relationship Id="rId4" Type="http://schemas.openxmlformats.org/officeDocument/2006/relationships/hyperlink" Target="http://www.acbl.org/info/laws97/node8.html#law23" TargetMode="External"/><Relationship Id="rId5" Type="http://schemas.openxmlformats.org/officeDocument/2006/relationships/hyperlink" Target="http://www.acbl.org/info/laws97/node8.html#law26" TargetMode="External"/><Relationship Id="rId6" Type="http://schemas.openxmlformats.org/officeDocument/2006/relationships/slide" Target=""/><Relationship Id="rId7" Type="http://schemas.openxmlformats.org/officeDocument/2006/relationships/hyperlink" Target="http://www.acbl.org/info/laws97/node7.html#law16" TargetMode="External"/><Relationship Id="rId8" Type="http://schemas.openxmlformats.org/officeDocument/2006/relationships/hyperlink" Target="http://www.acbl.org/info/laws97/node8.html#law31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9.html#law50" TargetMode="External"/><Relationship Id="rId2" Type="http://schemas.openxmlformats.org/officeDocument/2006/relationships/hyperlink" Target="http://www.acbl.org/info/laws97/node7.html#law16" TargetMode="External"/><Relationship Id="rId3" Type="http://schemas.openxmlformats.org/officeDocument/2006/relationships/hyperlink" Target="http://www.acbl.org/info/laws97/node9.html#law43" TargetMode="External"/><Relationship Id="rId4" Type="http://schemas.openxmlformats.org/officeDocument/2006/relationships/hyperlink" Target="http://www.acbl.org/info/laws97/node7.html#law16" TargetMode="External"/><Relationship Id="rId5" Type="http://schemas.openxmlformats.org/officeDocument/2006/relationships/hyperlink" Target="http://www.acbl.org/info/laws97/node7.html#law12" TargetMode="External"/><Relationship Id="rId6" Type="http://schemas.openxmlformats.org/officeDocument/2006/relationships/hyperlink" Target="http://www.acbl.org/info/laws97/node7.html#law12" TargetMode="External"/><Relationship Id="rId7" Type="http://schemas.openxmlformats.org/officeDocument/2006/relationships/hyperlink" Target="http://www.acbl.org/info/laws97/node9.html#law62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"/>
            <a:ext cx="582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351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7040" y="3289320"/>
            <a:ext cx="334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39751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768760"/>
            <a:ext cx="1143000" cy="29196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3759120"/>
            <a:ext cx="114300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R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3759120"/>
            <a:ext cx="113652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3759120"/>
            <a:ext cx="106668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8240" y="4673520"/>
            <a:ext cx="10605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9840" y="4673520"/>
            <a:ext cx="14349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bid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508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5727600"/>
            <a:ext cx="1289160" cy="9018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deno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 the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t any lega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0560" y="5727600"/>
            <a:ext cx="1206360" cy="9144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 bid i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denomina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s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810252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90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9000" y="7937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6781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6756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6794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5181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127400"/>
            <a:ext cx="10666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reviously call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58760" y="405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960" y="1536840"/>
            <a:ext cx="1663560" cy="374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 c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fter the out of turn bi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35120" y="175896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880" y="17524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120" y="1447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146320"/>
            <a:ext cx="1663920" cy="380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out of turn bid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236844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36280" y="25146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3360" y="23623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600" y="20574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755800"/>
            <a:ext cx="1523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uction reverts to 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 it was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1917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1463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120" y="19051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7558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28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365640"/>
            <a:ext cx="4442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8240" y="6121440"/>
            <a:ext cx="113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his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687060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no restr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70200" y="687060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 n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40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42800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70400" y="6121440"/>
            <a:ext cx="120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y legal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642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1760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616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508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889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889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412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448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2908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2908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0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8840" y="42800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1280" y="4495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8132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5086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44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8458200"/>
            <a:ext cx="52578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23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7391520"/>
            <a:ext cx="0" cy="1066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270400"/>
            <a:ext cx="13716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the out of turn call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nventionnal Pass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5651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5880" y="54100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240" y="56516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523880"/>
            <a:ext cx="1295280" cy="3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6428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7099200"/>
            <a:ext cx="304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2744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5423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519444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709920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4560" y="774720"/>
            <a:ext cx="1663560" cy="520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id an </a:t>
            </a: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pponen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wh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it was, call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rotation bid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5080" y="685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2000" y="8089920"/>
            <a:ext cx="596880" cy="216000"/>
          </a:xfrm>
          <a:custGeom>
            <a:avLst/>
            <a:gdLst>
              <a:gd name="textAreaLeft" fmla="*/ 360 w 596880"/>
              <a:gd name="textAreaRight" fmla="*/ 59760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49" y="0"/>
                </a:lnTo>
                <a:lnTo>
                  <a:pt x="21600" y="10800"/>
                </a:lnTo>
                <a:lnTo>
                  <a:pt x="153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12952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762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76824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1523880"/>
            <a:ext cx="14349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14632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2070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3880" y="1066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120" y="8794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Law 31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: Bid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(or conventionnal pass)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Out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4440" y="8337600"/>
            <a:ext cx="142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3240" y="8337600"/>
            <a:ext cx="217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8240" y="2673360"/>
            <a:ext cx="1670040" cy="5270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named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nex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55760" y="2108160"/>
            <a:ext cx="97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2840" y="4737240"/>
            <a:ext cx="2660760" cy="3682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ow many tricks were won by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including revoke and subsequent trick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4560" y="444672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480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096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44760" y="6458040"/>
            <a:ext cx="749160" cy="215640"/>
          </a:xfrm>
          <a:custGeom>
            <a:avLst/>
            <a:gdLst>
              <a:gd name="textAreaLeft" fmla="*/ 0 w 749160"/>
              <a:gd name="textAreaRight" fmla="*/ 749520 w 7491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798840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3056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8800" y="5546880"/>
            <a:ext cx="10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92720" y="6464160"/>
            <a:ext cx="24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21320" y="6469200"/>
            <a:ext cx="0" cy="13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1480" y="619776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360" y="66549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320" y="7238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27600" y="6216480"/>
            <a:ext cx="1359000" cy="412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ffender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(not partn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on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324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2280" y="19940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26880" y="4648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1640" y="612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1640" y="68580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000" y="76201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8240" y="3435480"/>
            <a:ext cx="1670040" cy="5205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r accepted a claim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8240" y="2082960"/>
            <a:ext cx="1670040" cy="2793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revoke on 1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40" y="4203720"/>
            <a:ext cx="16700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 is not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8280" y="2057400"/>
            <a:ext cx="151128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re all 4 hands 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 the boar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56200" y="3124080"/>
            <a:ext cx="14349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e may not choos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 possi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ggested by the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67984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8240" y="4406760"/>
            <a:ext cx="167004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ust corr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8240" y="5029200"/>
            <a:ext cx="167004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s played afte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ay be repl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2280" y="3340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280" y="2590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68400" y="1981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3662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40800" y="22352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0800" y="36450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0800" y="2882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6080" y="24382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84000" y="23493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84000" y="39495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84000" y="3187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9480" y="21970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7785000"/>
            <a:ext cx="1752840" cy="749520"/>
          </a:xfrm>
          <a:prstGeom prst="rightArrow">
            <a:avLst>
              <a:gd name="adj1" fmla="val 50000"/>
              <a:gd name="adj2" fmla="val 5803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umber of tricks transferred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o 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2887560"/>
            <a:ext cx="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56200" y="2057400"/>
            <a:ext cx="14349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ust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6200" y="2654280"/>
            <a:ext cx="1434960" cy="3175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n play 2 legal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5909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6242040"/>
            <a:ext cx="1593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ll cards expos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ing side 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jor penalty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601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2640" y="62103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35520" y="2438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6702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7829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8240" y="5715000"/>
            <a:ext cx="1670040" cy="304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 i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2640" y="563868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4720" y="7067520"/>
            <a:ext cx="1587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exposed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685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7130880"/>
            <a:ext cx="749520" cy="216000"/>
          </a:xfrm>
          <a:custGeom>
            <a:avLst/>
            <a:gdLst>
              <a:gd name="textAreaLeft" fmla="*/ 0 w 749520"/>
              <a:gd name="textAreaRight" fmla="*/ 749880 w 749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4340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 stands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4038480"/>
            <a:ext cx="1511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may no lo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80988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is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1320" y="7835760"/>
            <a:ext cx="630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21120" y="30481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2209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237492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3975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4127400"/>
            <a:ext cx="782640" cy="216000"/>
          </a:xfrm>
          <a:custGeom>
            <a:avLst/>
            <a:gdLst>
              <a:gd name="textAreaLeft" fmla="*/ 0 w 782640"/>
              <a:gd name="textAreaRight" fmla="*/ 783000 w 782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aw 43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80080" y="4216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5257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096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096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584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76201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460520"/>
            <a:ext cx="167616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a member of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 called on the next de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1841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2400" y="13842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5867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3200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838080"/>
            <a:ext cx="1676160" cy="3812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attention drawn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round has end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160" y="7621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21932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84000" y="1828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99840" y="12193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40800" y="16002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1600" y="990720"/>
            <a:ext cx="41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733920"/>
            <a:ext cx="762120" cy="215640"/>
          </a:xfrm>
          <a:custGeom>
            <a:avLst/>
            <a:gdLst>
              <a:gd name="textAreaLeft" fmla="*/ 0 w 762120"/>
              <a:gd name="textAreaRight" fmla="*/ 762480 w 7621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838080"/>
            <a:ext cx="16635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penalty is assessed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revoke by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r in the same suit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or failure to play any face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, including dummy ’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72453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5595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2280" y="8564400"/>
            <a:ext cx="56322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Director shall assign an adjusted score (see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2C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 when he deems that after any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, including those not subject to penalty, the non offending side is insufficiently compensa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83808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71800" y="144792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6934320"/>
            <a:ext cx="1523880" cy="672840"/>
          </a:xfrm>
          <a:prstGeom prst="roundRect">
            <a:avLst>
              <a:gd name="adj" fmla="val 123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ad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bsequent trick with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 that could have b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7238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7238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6629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9200" y="8794800"/>
            <a:ext cx="391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s 62 to 64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: The Re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21:43:16Z</dcterms:created>
  <dc:creator>Infocentre</dc:creator>
  <dc:description/>
  <dc:language>en-US</dc:language>
  <cp:lastModifiedBy>Per Nordland</cp:lastModifiedBy>
  <dcterms:modified xsi:type="dcterms:W3CDTF">2002-07-14T21:50:09Z</dcterms:modified>
  <cp:revision>13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es documents\Lava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