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198-EAF1-4F98-A46B-09EC60A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600-7E1E-451D-BC51-5DA62448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2E3-4D6C-4C73-A11D-62ABC116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C06-26F9-4773-97A8-1A345C4B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4564-374B-4F87-AC7E-275B0FF3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606-1BFA-4D64-8C42-8741053C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4F7-3435-4AD2-865B-184F20D0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030-1AED-40B1-AC6E-18413FA9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F0D-DDB1-4935-8A71-68B2B623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63DD-064A-4C24-8281-7250A099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CAED-5948-464B-B19A-C4480CF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9CA-7C55-411C-AF4C-F091E2E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F40D-6311-4736-8A89-305EA999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1A26-201A-4AFF-A607-F48D3E3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039-80A3-4C7F-BD3E-28D3F59D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342-7222-43E1-9C33-7FA6B3BD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5F6-A6BE-452D-8BED-CC577C6E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72B-4D2E-468A-9DEA-6A3E539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CF2-751D-4DFF-82B6-D69F3556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BA1-FBC7-4DDA-8BC1-0077D663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B88-A7BB-4143-8205-3908228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2A9-2A3E-4876-9B0E-8650672F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EA4-ABFF-4071-A828-3FC2F99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F2A-9EEC-46A8-AB1D-1F29B5E3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E33F-F02F-4881-9BEF-6A87CDB2AA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09D-44B2-4743-A720-1C1B7EB2E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433E-4063-4949-9632-559EA92361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939-5C5C-4622-943B-4811FCE67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 med 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g litt om bruken av de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6D5F-D726-471B-AA83-3ABF79CC88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613257-16CE-4A9E-B1CD-71E2648F664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programmer under Window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n ha skriverproble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viklet i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Dansk programpakke for DOS/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løver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ndowsbasert for 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xcelbaserte programmer for mindre 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993-DE64-4A70-885A-D9D1C12B0B13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90997-E31D-4A67-81B1-7406CF13C059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ar , Laserbar,  Filbar, Blekkb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, slipper, resultatslipper, stensil HTML filer o.s.v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Monrad, Lasermon, Film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nradturner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amme service som i barometerturnering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960-238C-43A2-90FF-BBCED87158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CB7DF-AC61-4C14-B52B-C58226A4850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r opp lagse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beregnes som kvot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ehersker Monrad med 1 eller flere mø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er summen av motstandernes poeng mot and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utoscore av vinnerpo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318-E185-490F-8978-D9EB150EE5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42161-5B28-46FA-8B60-C599BBB7001B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K 2000 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(Bull-Gulbrandsen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rogrampakke bygget i Microsoft Access som tar sikte på å bli en komplett pakk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arometer, Monrad og frie opps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dlemslister fra NB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sterpoe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coring fra grensesnitt pr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Neuberg’s forme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littet sco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Fullført programpakken vil dekke alle behov innen turneringsregnskap og registrering av MP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5BE-B32C-44DC-8095-3988B9FC08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2BD56-ACF4-4588-842E-7D73167B809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horvald Aagårds programpakk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S-basert og arbeider under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leksibelt ved at operatøren setter opp alle aktuelle beveg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Lag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lle typer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nge aktuelle scoringsmetod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Sven Pran har utviklet et program for oppsett av singelturneringer i programme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enne gratis programpakken brukes til øvingsoppgavene i dette kurs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84A-72B4-40B0-9790-D42528684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D3F8B-C9BA-41FC-96F1-397F4FEEB295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ndowsbasert program for Barometerturneri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asting fra flere mask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ode rutiner for korri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374-8C31-4139-899F-DAA0291AB1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C0BD-0F8B-4084-8832-7934E08B68EE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Jan Henriksen (Bridgehuset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xcelprogrammer som skriver på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Lag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Tabelloppset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som NBF s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5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6 spill pr ru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owell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2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av slipper og plansj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Opptil 15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 og slipper</a:t>
            </a:r>
            <a:br>
              <a:rPr sz="2000"/>
            </a:b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inge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nntil 48 spille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esialutgave med 48-120 spil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136-EB3C-4313-A2CD-0F4338BF31D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97288-48A7-45A5-A8AA-20A70F083487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9-18T20:10:36Z</dcterms:modified>
  <cp:revision>5</cp:revision>
  <dc:subject/>
  <dc:title>Turneringsregnskap</dc:title>
</cp:coreProperties>
</file>