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D60B-D7A7-4910-9FDE-9BA2744C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769-363A-4CAA-81A0-4F4C5E86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EE0A-993B-46D1-8636-8BBC8523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F54A-F029-4190-B4B6-409876BD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0C0B-4812-4514-90EC-7B1D6D55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48F3-F8B1-453C-A504-00EA04E8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56A2-4AEC-4D40-A55B-705D549A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77B4-0BAB-4C18-9684-103D026B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C90A-3198-49D9-A34B-A3F7DB4F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7C7E-801D-491B-A8C0-F2171DCF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0079-F6FC-4DA8-9F9D-4045351C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FB08-BCEA-43CE-98BB-504EE47F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597E-6277-462F-B06B-30398832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5DDC-EDEB-4836-B77D-8B7FAB04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71DF-47D4-4AC7-AC3D-EF16D4DD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30DA-95A9-4B9C-BE06-572293B7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AB23-E3C8-4BAC-99AD-89846896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F12-8CC0-44C5-9668-1EF78783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EB18-CDD6-428E-841F-21D2E0FA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1102-E689-4A14-83FF-CE47B03D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1FE9-A283-48B2-B491-F1E01A55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B8B-300F-4706-B5DD-806A37EB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1B4-56BC-44C7-B79C-2B3A9B3F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0AEA-CAEA-401B-A026-3E372180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. januar 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er Nordl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AAFD-09F9-4F0D-B168-246A79B2E4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. januar 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er Nordl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4BD7-2D5A-4DA8-BF19-FDE64D1DEA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regnskap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ataprogrammer som tilbys i Norg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NBF - 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Times New Roman"/>
              </a:rPr>
              <a:t>Windowsbasert parturnerings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lle utregningsmåter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Kontakt med NBF medlemsregist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erieturnerin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onrad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Frie oppsett av turnerin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enytter standard slipp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Lager HTML fil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ridgehuset 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n programserie i Excel 95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ien er basert på behovene i en klu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ell og ser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ordplansjer og slipp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ptil 16 B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gturn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abeller, oppsett, lister for forskjellige spillantal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ruke datasystem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Konfigurere utstyre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kre at printer, program og maskin virker sam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uder bruksanvis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Kunne normalbru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34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Legge inn navn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  <a:p>
            <a:pPr lvl="3" marL="1584000" indent="-226080">
              <a:spcBef>
                <a:spcPts val="34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krive ut plansjer og lister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  <a:p>
            <a:pPr lvl="3" marL="1584000" indent="-226080">
              <a:spcBef>
                <a:spcPts val="34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Lage slipper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  <a:p>
            <a:pPr lvl="3" marL="1584000" indent="-226080">
              <a:spcBef>
                <a:spcPts val="34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Legge ut resultater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Kunne rettingsrutiner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Kjenne noen som kan hjelpe i en vanskelig situasj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orbrukeren blir ”ekspe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a sikkerhetskop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orberedelser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gge inn nav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gge inn giv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ge plansj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krive ut sli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Gjennomfør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rt scoring når første bord er ferdi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krive ut og dele ut resultater etter hver ru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orrigere fe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Offentliggjøre sluttresultaten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ett inn svansebord (1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Kan bare brukes ved et bord der ikke er et par som sitt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t svansebord gir 2 ekstra sittepa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vansebordet og det andre deler spill i Howell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7960" y="19051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638680" y="2362320"/>
            <a:ext cx="1295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2362320"/>
            <a:ext cx="1524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2209680"/>
            <a:ext cx="91440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2286000"/>
            <a:ext cx="10666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0552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94520" y="1942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58160" y="327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25516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43760" y="258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31880" y="252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4648320"/>
            <a:ext cx="1143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(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4648320"/>
            <a:ext cx="12189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(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920" y="426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19720" y="563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10240" y="502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05520" y="502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91320" y="502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86960" y="502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99360" y="449568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64360" y="4266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24480" y="563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63800" y="380880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ksemp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ett inn svansebord (2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ieturneringer der alle spiller samme spill i run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ringene i oppsettet angår bare de to bord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Brow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ndre antall bord     +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ndre antall sittepar  +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Nye slipper og bordkort for 2 bor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ellturn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urneringshjælpere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ridgehuse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 to bordene bytter spill i run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lytteanvisningen endres slik at de som skal til en plass der et par sitter fast går til tilsvarende plass på svansebordet, og deretter etter plane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Programpakk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4038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Willy Browns programm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Times New Roman"/>
              </a:rPr>
              <a:t>Samarbeider med Sven Prans slip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ABC-Data sine program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Firkløverdata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Turneringshjælperen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Jan Henriksens programm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AR programmene (DOS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Bar , Laserbar, Blekkba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Times New Roman"/>
              </a:rPr>
              <a:t>Serieturneri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Fra 2 til 60 bord inklusive blindtarm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Fra 1 til 20 spill pr rund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Matchpoint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Butler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IMP across the field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kriver ut plansjer, slipper på eget format, resultatslipper, stensil HTML filer o.s.v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AR programmene (DOS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onrad, Lasermon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radturnering for inntil 80 (110) p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reie trekningsrutin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lassering i neste runde på slipp og resultatlist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atchpoint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utler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MP across the field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kriver ut plansjer, slipper på eget format, resultatslipper, stensil HTML filer o.s.v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Willy Brown’s lagprogram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t enkelt og liketil lagprogram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psett  Serie eller Monr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 eller uten automatisk V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ner kvot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er opp tab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Tips om WB pro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Unngå lange filnavn med å legge programmet i mappe C:\BAR eller D:\BA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Kontroller at programmet virker sammen med printeren. Det styrer selv printerutskriften fra DO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serbar og Lasermon til Laserskriver. Det hender at programmet må kjøres fra DOS for å unngå problemer med urtskriften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Vær nøyaktig ved inntasting i programmene.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t kan arrangeres f.eks BoforsMitchell eller vanlig Mitchell ved å angi rett antall sittepar og la sitteparene være nummerert fra NS1 og oppov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grammet skriver ut slipper i et eget formar på slipper i bane. NBF har gått over til perforerte slipper som skrives ut fra WB med Sven Prans program ”Slipper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hjælpere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Laget av Thorvald Aagård i Danmark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grampakken er skrevet på dansk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grammene kan lastes ned gratis fra net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gelturn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urn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gturn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hjælpere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grammene er skrevet i DOS, men er i senere tid omarbeidet for bruk i Window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Ved oppsett av turnering legges startposisjoner for alle runder in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tte gjør det mulig å arrangere turneringer med andre enn de tradisjonelle flyttemønstre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ngelprogrammet er god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itchell og Howell er OK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ordplansjene inneholder flytteanvisning for hver rund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t skriver ut slipper på vanlig papir som så må kutt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grammet lager HTML mal og filer for utlegg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eg har for liten erfaring med programmet til å kunne gi en rettferdig beskrivels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grammene anbefales for de som skal arrangere singel og spesielle parturnering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Firkløv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Windowsbasert parturneringsprogram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llater punching fra flere mask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river ut til tekstfiler m.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ytter NBF sine standardslipp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løpig kun serieturn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17:21:43Z</dcterms:created>
  <dc:creator>Per Nordland</dc:creator>
  <dc:description/>
  <dc:language>en-US</dc:language>
  <cp:lastModifiedBy>Per Nordland</cp:lastModifiedBy>
  <dcterms:modified xsi:type="dcterms:W3CDTF">2001-01-31T22:26:29Z</dcterms:modified>
  <cp:revision>5</cp:revision>
  <dc:subject/>
  <dc:title>Turneringsregnskap</dc:title>
</cp:coreProperties>
</file>