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F52-E121-4173-B071-2968A91B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4E8-A664-4B63-BD7B-EF402C0A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EBA-7D6A-4AC8-A0B0-5D69E099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B70-B695-49CD-8053-260A5643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156-371C-4BB5-9F2D-D8832B18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0025-1D83-40C3-8754-799F5A3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3F31-13C0-4EF8-B667-34F5A2D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DC8-7FF5-465A-80D6-3D171B2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AD1E-67F2-4F35-9BB3-60387C0E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71F0-10B6-4500-91CE-25D60E58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7930-A5DC-425A-BC4C-DBB6044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42D-33D3-43C3-987D-349CE9E4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B88D-C34D-4162-BD06-EABDFF1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2463-F8A2-4C3B-A3E9-19419C6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CF84-EB4C-4365-B1D8-98D76B8F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EB2-340F-43E0-8CF8-284EACAA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722-170D-4486-B0C5-006A0DC8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E7B-DD3D-4C9F-8E98-52D8C80B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BEA-B09A-4381-9CD8-EF473FAC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051-BCF3-4366-B258-A22E93B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D08-EDF0-41C8-82B0-ECB007A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2B0-DAE5-4E7A-B56E-C20EACE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5A5-3850-492C-8C32-5B81EFC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FA3-F67B-472E-87FB-2ABDF79F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8BE-6D71-48A9-9B3C-67C191B34A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66DF-83A0-4C7E-A78E-85EEC1E88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8AE7-2ED8-48AC-BFCF-ED684B4AE6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7636-6354-48A2-8B89-E4173CC5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r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r med dataprogramm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6811-32A4-4FF9-AD35-F1B5CF04E2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EC0486-EB70-4B35-823B-5229E0E63040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e spill må spilles i en sesjon (kan ta en kort pause) for å unngå fri flyt av urettmessig informasj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psett for 4-12 bord (14-46 spill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t brukt er 4 – 7 bord med mindre enn 30 spil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grammene kan bruke Blindta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D5F-DF73-40B3-BD78-8D8A210DE4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72C41-7998-41F6-95EF-039596A442F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ometerturnering finnes i alle program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ringer på en dag eller helg  med 2-4 spill pr.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id med forhåndsdublerte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bbturneringer med 8-12 spill pr ru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blering etter at spillet er spilt første gang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29D-6F87-4C6D-93D2-25F5B3E17E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88F53-BD8D-4FD0-8E39-97D63B69C1BD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onrad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beste møter de beste, kun ett mø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og BK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blerte s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ør bruke minst 3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øte 25-50 % etter reglementet (helst ned mot 25%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olig er 30 runder alltid n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rt med 2-3 runder som er forhåndstruk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s pr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8BA-05B0-4CA6-B746-C948F0B0AC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D15F1-48EE-4CBC-B686-5FDD0702BA0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itch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tandard er er to rekker i hver sin ret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oppsett i Tävlingsledaren kan bruk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alanserte” turneringer med 4 eller flere grupper (rekker) som møter hverandre etter Howellprinsipper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A10-125A-4910-9EF1-1E0F805B59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A8CA9-C686-4090-86D7-B47028F91EE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ndre ”parturnering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utlerscoring av lagkamp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ut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 av egen score mot Butl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= middelscore evt uten høyeste og laveste score(r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regne IMP mot alle andre bord og bruke summ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le total IMP på antall sammenlign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B62-1FED-4AB9-A58B-169F96C3C5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D6591-3A6B-48E9-9FB2-DC8B8684A77F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0:11:03Z</dcterms:created>
  <dc:creator>Per Nordland</dc:creator>
  <dc:description/>
  <dc:language>en-US</dc:language>
  <cp:lastModifiedBy>Per Nordland</cp:lastModifiedBy>
  <dcterms:modified xsi:type="dcterms:W3CDTF">2001-09-25T18:21:19Z</dcterms:modified>
  <cp:revision>6</cp:revision>
  <dc:subject/>
  <dc:title>Parturneringer</dc:title>
</cp:coreProperties>
</file>