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64C-5233-4618-95EA-16044AFA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A43-E76D-4040-A96F-4DD6C44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C71-A3E4-4218-A55A-48D15B98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DC7-3587-45B9-A81C-9D6C9E84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157B-C37D-4364-8116-5D64FCF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D43B-B6B8-49E5-86C6-254F09F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DAB4-D3FE-4A3E-911D-1B2377E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37E-5838-460A-8C62-30B7A7A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2EA-5157-4495-B6D6-8CF71A0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0854-213D-420D-998C-6B48798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F07C-D9AD-47F4-88D1-7F2C30B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FE3-5468-4A22-A803-66A9E0B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4AC-62E3-4C18-975B-BAD8EB1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D289-550B-4921-8504-FF4344A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8B59-1734-44BB-8FD2-49FB71F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B43B-1B80-4619-859B-B2A6024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920-395E-4B30-8249-5B5454BD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28C-E1F4-4637-9A7F-70253940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299-1AAA-4235-BADF-F941962E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16C-0E80-40A0-B718-FE85E52A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8EF-7C1D-4A1F-A366-8BF4805D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7A2-0BA2-4459-9B94-73F641A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DD2-7BA7-4840-B417-F7209CD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3CC-FA8C-4C31-9D06-B203DAE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AF0C-B064-49FC-8DBB-1A84B3ACD6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A46-21D9-492A-A344-1AFA151FB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446-FBB5-4FE2-9E06-4B6DAEF26B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F9C7-BF99-4CD6-AF0A-6F520D5F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m aktuelle turneringsopps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BFB2-115C-4C30-BBC4-6D565B70C4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841F9D-A470-4224-8F39-0F82387D0ECA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m 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ingelturneringer er ofte barometerturneringer der alle spiller alle spill før spillerne flytter mellom b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ävlingsledaren har Howell og Mitchelloppsett for et stort  antall spiller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n sportslige verdien av slike turneringer er begre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 er sterkt varierende styrke på spillerne innen makkerpa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E60-760F-4C85-95C4-716FEC127B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5D144-27A3-4818-A9BC-EF1B3C9C628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sprogram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urneringshjæl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nuelt oppsett på fritt grunnla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med Prans Ske.exe i en pulje med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i like puljer inntil 4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Henriksen (excelbas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i grupper for 48-120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enkle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kan gjør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coreslipp i vanlig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426-DDB0-4A50-AF56-98EE14D93C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657D5-02DC-4ADC-A1B3-5911CD89AF0B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orventninger om 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K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oppsett 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uljevise oppsett for inntil 10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oppsett for inntil hundre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re runder på hvert bord (4-1, 2-3) (4-2, 1-3) (4-3, 1-2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Runde 4-5-6 trekkes etter runde 2. Runde 7,8,9 trekkes etter runde 5 (Runde 10,11,12 trekkes etter runde 8)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Velge antall møter frit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473-3695-470E-8F69-1DC9599FE8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B8215-C2E1-4AA6-8FB7-135088E1C07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ktuelle oppsett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rieopps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i Tävlingsledaren i en gruppe eller flere grupper (Henriksen for grupper 48-120 spiller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rowns program SINSTA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itchelloppse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n rekke sitter rolig de tre andre beveger seg i utak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CD8-7391-49DB-863B-1E9682D7DB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97390-B71C-4232-B58B-987D9CBE3B85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4:42:54Z</dcterms:created>
  <dc:creator>Per Nordland</dc:creator>
  <dc:description/>
  <dc:language>en-US</dc:language>
  <cp:lastModifiedBy>Per Nordland</cp:lastModifiedBy>
  <dcterms:modified xsi:type="dcterms:W3CDTF">2002-01-20T22:21:16Z</dcterms:modified>
  <cp:revision>5</cp:revision>
  <dc:subject/>
  <dc:title>Singelturneringer</dc:title>
</cp:coreProperties>
</file>