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81D-CD42-44D1-AEA4-262C4261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561-F25F-4CBF-A641-300E7866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F40-4F04-4AC5-A648-B7A2665C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3FE-06F5-40B9-A7F6-6C20D579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46A1-FA0C-47A6-B288-4E461521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4855-7AB0-4D44-B556-EFEF36A5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49D8-1B5A-4ACC-9AA0-11ABD0B2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D83E-13DC-41D6-85F1-45E50968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AF06-C7BD-4AB0-841C-52964638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4A6F-6947-436F-8DC3-2E0C8193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5886-90B4-4D17-83E4-6B562819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9A6C-16B5-40D8-B0E7-5D6D3F94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9150-DD65-4A75-96A5-24880CB3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46BF-5039-4FF7-AFD4-90E16572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7B65-A7FD-481F-A5D5-85138D6C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9A39-2ACD-458F-B801-8D4F20B7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B858-0251-49BE-B24F-858DFCB6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B40-97EF-4617-AE18-D78BE05B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160-DBA5-49EF-88FF-AEBC5D2F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F25-FD95-4EB2-9E34-31FBD3E8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C2B1-0610-4F6C-9A4F-9889C60E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4193-A40E-468D-9162-B80296CF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94CE-E1BB-4D03-8ED3-35B806E7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8F4-CCDE-40D0-A8BE-032AEE5C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3FD5-33DE-4256-9F58-29ECDEF5BC1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EA29-FF6F-4CEA-83AA-7AD8C2A6B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3872-D63E-42CA-8D89-CE5B7986E04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5048-3B07-4158-B313-9992C6F11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form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ulighetene er mang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B183-F4F7-4F31-85BC-7E646A8D4E7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7F49E92-955B-444B-9B72-6053E456A1A9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tandardoppsett for barometer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Høyest /lavest metoden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alanse oppnås ved at man ved noen bord setter paret med lavest parnummer 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Dette er beregnet i tabeller som finnes i den store boken om bevegelser ”Tävlingsledaren” av Hans Olof Hallén med medarbeidere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Tabeller som følger med dataprogrammer skal settes opp etter denne tabellene i denne boken  (Tabellene i BAR er like gode, men de kan være litt endre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4DE-6E8E-4012-829E-DAAA4C5858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02CB0-8163-4FD2-A4A5-1F725A1493C3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Ekstra bord ”Blindtarm”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Brukes i Howellturneringer og Serieturnering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Sette inn ett ekstra bord, og to nye par som sitter rolig. Parene som beveger seg beholder retningen 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14400" y="3809880"/>
          <a:ext cx="6858000" cy="232092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  <a:gridCol w="990360"/>
                <a:gridCol w="990720"/>
                <a:gridCol w="990720"/>
                <a:gridCol w="990360"/>
                <a:gridCol w="9907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 bords Ho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 bords Ho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 B + Blindt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0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8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8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9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0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306-5385-40A1-966D-FFBBE2400F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78EB2-F886-492B-98FC-40B05B168DB3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ruken av ”blindtarmer”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Ekstra bord kan settes inn ved bord der det ikke er et sittepar. Greit å ty til i barometerturneringer med ferdige plansjer og slipper.             Endring av plansjer og slipper angår kun dette bordet + ekstrabordet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Balansen mellom sitteparene og de som beveger seg er go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Det er nødvendig å endre retning i noen runder for å få noe balanse mellom sitteparene. Vi ser at en turnering med mange blindtarmer kan bli en turnering med 3 pulj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De som beveger se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De som sitter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De som sitter Ø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Blindtarmene reduserer antall runder i turnering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9 bord uten blindtarmer &gt;&gt;&gt; 17 ru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5 bord pluss 4 blindtarmer &gt;&gt;&gt; 9 ru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Par med høyere startnummer enn NS bord 1 er sittepa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7FA-27BC-4D73-BDE9-B857E80678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BEB0D-890E-43E9-985F-D3DA2A01F297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Standardoppsett for Howell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pillene spilles i rekkefølge på alle bord og alle møter all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arter med laveste spillnummer på bor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Antall runder som kan spilles er lik antall flyttepa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Antall spill totalt blir da: Spill i runden x Flyttepa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pillerne og spillene plasseres slik at dette er mulig.         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(se tabeller hos Hallé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et finnes tabeller med høyest /lavest prinsipp og andre tabeller der spillerne går ”mer enn ett bor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3AC-9B93-4A0F-94A4-36FEAD9AE23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2A736-F4C6-4FAF-9DB3-845895DD3696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Spesielle Howelloppset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To grupper kan spille de samme spillen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obbel How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To parallelle rekker spiller spillene samtidig og bord med samme nummer bytter spill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nvevd Ho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To rekker spiller med en rundes forskyvning slik at bare noen få bord bytter spill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Redusert Ho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Bruke et lavere bordantall med flere blindtarmbord i stedet for full turnering. Blindtarmbord og opprinnelig bord deler spill Turneringen kan også være avbrut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945-B22C-47C2-BC1C-849887BC27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4E544-3068-4421-9595-91DBA3403C57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Standardoppsett for Mitchell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Turneringen deles i puljer slik at antallet mulige runder i en omgang ikke er mye større enn antallet spilte rund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cores ut i to resultatlister en for NS og en for ØV. Eventuelle puljer summeres sammen dersom de har spilt de samme spill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Ved et likt antall bord så flyttes det to bord etter runde N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Ekstra byttebord slik Hallén beskriver det mellom bord N/2 og og bord (N/2+1) brukes lite ute i verden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8C7-7FBA-4440-9FE9-F44E6D86506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2D75A-D553-4D10-97B3-D011704732A5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Spesielle Mitchell oppset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Mitchell med varierende retning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Ringdansmitchell for turnering mellom klub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oforsmitchell for å balansere opp til en resultatliste på en ru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Mitchell med mange omgang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Flere puljer (samme deltakere i pulj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I omgangene flyttes rekkene etter et barometeroppsett noe som gir god balanse i sluttresultate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D3F-E6ED-41D6-A433-C02BEBEE52B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DEF7B-2BA7-41B2-AE95-273C01F7D501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formene (1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ag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ller flere par på la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spillere spiller sammen i hele turn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ingel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llerne skifter makker etter hver ru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430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erie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gruppe, samme spill i r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owell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gruppe ulike spill i r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itchell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rekker mø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onrad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nnere mø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47F-B386-4F26-9EA0-8CEB29FD80C4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F9D06-053A-41C6-A004-D2CCB936737C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formene (2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agserier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esystemet i divisj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etsse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rometerturneringer for pa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M for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Åpne turner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mer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rieturnering i klubb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ubbturnering over flere kvelder med et fast antall b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ingelturnering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vanligste er serieturner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2614-6C2A-4C4A-8711-9C991EB8C80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943AE-7545-459B-BDF9-D3D2F67311CE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formene 3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Howell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Alle møter a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pillene flyttes et bord ned og spilles i rekkefølge på bor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En resultatl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onrad (Swiss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pillere som er nært hverandre på resultatlisten møtes. Alle spiller samme spill i r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itchell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Turneringsform der spillene leveres et bord ned og spilles i rekkefølge ved bordene (fra 1 &gt;&gt;N)</a:t>
            </a:r>
            <a:br>
              <a:rPr sz="2000"/>
            </a:b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pillerne deles i to  gru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En gruppe f.eks NS sitter rol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Den andre gruppen går til det neste høyere bordet (fra N &gt;&gt;1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99A-A3AE-45E6-B93C-5EE1ACD64945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791F1-D41F-42D5-B6DD-F4EF5B97FDD7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Konkurrans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å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st mulig poeng til egen side når resultatene sammenlig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re beregnes s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ekkverdi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Utgangsbonu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onus for lillesle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onus for storesle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ekkverdiene gies til det syvende stikket og oppov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for kløver og r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for hjerter og spar og senere stikk i 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 for første trekk i 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dobler trekkverd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D 4 dobler trekkverd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gang når meldt trekkverdi inklusive D eller RD er 100 eller 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8356-EE01-475F-BE46-AEB6C89E2C23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C8680-5D5B-47D9-A598-7CBD61CAB167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Noen turneringsbegrep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ammenligningsgruppe i par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Alle par i gruppen som sitter i samme retning på et sp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atchpoi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2 poeng for alle scorer i samme retning som er dårlig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 poeng for alle like sco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0 poeng for alle bedre sco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IMP </a:t>
            </a:r>
            <a:br>
              <a:rPr sz="2400"/>
            </a:b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internasjonale matchpoi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Forskjellen mellom to scorer avleses i en tab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utler /Datum etc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En gjennomsnittsscore (enten med alle eller uten topp og bunn) som score sammenlignes 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IMP across the fiel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ammenligning med alle bord evt. delt på antall sammenlign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542D-B8B6-4804-A943-A0E813B0C6C8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273BA-9E25-4C62-AA80-F27F95059C57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Kombinasjonsmulighet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Lag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pps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eri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itchel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onra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coringsmet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IMP  &gt;&gt;&gt; V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atchpoint mellom 2 bord brukes i ”Board a match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Par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lle oppsettsmetoder kan kombineres med matchpoint eller med IMP (som butler eller across the fie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ingel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andardoppsettene er serie (og matchpoint), men mye kan forsø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CEC-A535-4328-A20E-497F52BF03A9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C04D6-66EB-4F34-984E-ABA800EDC0B8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Oppsett av serie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ltakeren med det høyeste nummeret sitter alltid på bord 1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 andre deltakerne flytter etter deltakeren med et nummer lavere (deltakeren med nest høyest nummer går etter nr 1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Høyest/lavest metode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I lagturnering og par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Bord 1 (N)    – 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Bord 2 (N-1) – 2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Bord 3 (N-2) – 3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Perfekt bala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Være i samme scoringsgruppe som et hvilket som helst annet par i halvparten av rund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Halvparten hjemmekamper i lagturne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089-DAF5-4C9B-98E6-7626E94FB98C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E6C1B-D97A-46B9-ACAE-04BB3ED5D19B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tandard lagserieoppset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øyest / lavest metode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get som sitter på bord 1 har hjemmekamp i runde 1 til N/2 og bortekamp i resten av rund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dene spilles i rekkefølgen: 1, (n/2+1), 2, (n/2+2), 3, (n/2+3), 4, (n/2+4) …os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te oppsettet gir at alle veksler mellom hjemmekamp og bortek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slik runde er en enkel serie og det er det vanlige i Bridgeturneri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284F-0FA0-48F2-A638-1AA5174AA2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27FAA-1104-4934-A56C-B6C79BC6A8CA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21:50:37Z</dcterms:created>
  <dc:creator>Per Nordland</dc:creator>
  <dc:description/>
  <dc:language>en-US</dc:language>
  <cp:lastModifiedBy>Per Nordland</cp:lastModifiedBy>
  <dcterms:modified xsi:type="dcterms:W3CDTF">2002-06-02T07:46:51Z</dcterms:modified>
  <cp:revision>14</cp:revision>
  <dc:subject/>
  <dc:title>Turneringsformer</dc:title>
</cp:coreProperties>
</file>